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5.jpeg" ContentType="image/jpeg"/>
  <Override PartName="/ppt/media/image8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4C3-825D-4500-A7F9-9CE9BD98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CA3-4DEA-493D-B6AB-C81BB2A0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9BB-5EA9-45C1-B22E-B58A8E9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5C3-4C4C-4693-983E-4E7485A8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E55-4B92-4410-8840-FD55775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B70-C194-41A3-91AC-6A80589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51E-DE87-4515-BBA8-3287DF2C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D53-E41C-4CFA-8B2C-5900DC5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A81-38F3-4777-AE89-3AAC7AD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383-04DE-4A29-8750-20F1DD9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3C2-4DFA-46B8-8604-1A43EBB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446-59B2-4A84-8ABF-37EDB838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104-5E99-4ABB-8754-A4E7286BC8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er am Limit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erie in ultrastarken Laserfeld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29120" y="1916280"/>
            <a:ext cx="3348000" cy="4465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31687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960" y="1811160"/>
            <a:ext cx="8344080" cy="3235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Tunneln und Rekollisionen bei Ionen  in super intensen Laserfeld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relierte Doppelionisation &amp; Hochfrequenzl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istische Quantendynam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6300720" cy="99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12536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irac Gleich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09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762440" cy="348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9680" y="2852640"/>
            <a:ext cx="3280320" cy="31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Palatino Linotype"/>
              </a:rPr>
              <a:t>Relativistische Theorie</a:t>
            </a: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Teilchen nicht schn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als Licht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Licht gleich schnell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allen Bezugssyste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- Wellenfunktion mit 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Komponenten - Sp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Quanteneigenscha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und die Möglichk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von Anti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irac Dynamik in starken Laserfeld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419360" cy="457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086000" cy="5029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5720" y="914400"/>
            <a:ext cx="1744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ies Elek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47080" y="914400"/>
            <a:ext cx="3466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t Streuung an nacktem 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1229400" y="336204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ser Polarisations 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320" y="601992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ser Propagations Richtung [atomare Einheite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6920" y="652140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= 640 a.u., w= 8 a.u., kin. Energie ca. 40 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743200"/>
            <a:ext cx="3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7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n Dynam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233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imaterie durch starke Laserfel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54240"/>
            <a:ext cx="9144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Elektron-Positron Dynamik im Laserf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533680" cy="475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87600" y="1557360"/>
            <a:ext cx="2536920" cy="475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78560" y="1628640"/>
            <a:ext cx="2497320" cy="468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4440" y="6461280"/>
            <a:ext cx="5052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uf dem Weg zur Schwinger Feldstär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81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81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887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686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904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243080"/>
            <a:ext cx="7413840" cy="5162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rnphysik mit Laser-Plasma Wechselwirk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3921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nfusion mit Las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29880" y="5257800"/>
            <a:ext cx="30718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+ D                He  +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on mit 2.45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5410080"/>
            <a:ext cx="1154160" cy="171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773840" y="525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ilchenphysik mit hochintensiven Laserpul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240" y="1752480"/>
            <a:ext cx="64170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Positronium in Hochintensitätslaserpul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640" y="2971800"/>
            <a:ext cx="8577360" cy="960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05960" y="3429000"/>
            <a:ext cx="2180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und   Str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9680" y="3048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680" y="3276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3040" y="32767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320" y="31240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1154160" cy="582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1154160" cy="58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752480" y="5867280"/>
            <a:ext cx="1154160" cy="17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22320" y="454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7980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8000" y="4114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1280" y="419112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0120" y="4114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7960" y="5614920"/>
            <a:ext cx="8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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280" y="4572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040" y="5638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0600" y="50292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91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1120" y="4952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00200" y="5581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0040" y="562464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2720" y="5638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000" y="45576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1280" y="45576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7312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43160" y="41767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9080" y="41148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9720" y="4952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3160" y="4710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9080" y="4724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7640" y="4724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760" y="472428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79920" y="274320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chfrequenz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27120" y="342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95040" y="4495680"/>
            <a:ext cx="2644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-Boson Erzeu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7920" y="5562720"/>
            <a:ext cx="443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e nach Resonanzen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 im Zerfall von Elektr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ser im Leben der Physi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384720" cy="270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4221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03640" y="1359000"/>
            <a:ext cx="3384720" cy="264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" y="4869000"/>
            <a:ext cx="43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… </a:t>
            </a: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und nicht nur die Theoreti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träumen von immer intensiv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Lasern mit kürzeren Pul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ase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ight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mplification by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timulated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mission of 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998720"/>
            <a:ext cx="770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hwache und starke Lichtfe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464832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25240" y="60357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Palatino Linotype"/>
              </a:rPr>
              <a:t>Strickland &amp; Mourou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4600" y="2743200"/>
            <a:ext cx="269532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ck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erstärk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Komprim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9000" y="3657600"/>
            <a:ext cx="26618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rzeit bis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10    Watt /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8840" y="4038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5560" y="403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4876920" cy="2608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2360" y="4937040"/>
            <a:ext cx="476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Energie pro Zeit wie Stromverbra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in ganz Deutschland … wenn a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nur für Femtosekunden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Weitere Petawatt Lasersystem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im Bau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Palatino Linotype"/>
              </a:rPr>
              <a:t>an der GSI, MPQ und in J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1981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Wechselwirkung von Materie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mit  starken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aser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Feld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e in intensiven Laserfeldern: von der Quantenoptik in Richtung Hochenergiephys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6326280"/>
            <a:ext cx="594360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4560" y="6172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teigende Laser Intens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1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tensysteme in solchen Felder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ktron im starken Laser F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46520" y="518148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chwächeres 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9760" y="5181480"/>
            <a:ext cx="37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hr starkes Feld 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utlichem Einfluss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gnetfeldkompo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ch interessant: Rolle d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rns und anderer Elektr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ns Prag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wei-Elektronen Atom: Laser-induzierte Doppel I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86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9800" y="652140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: Äußeres Elektron; Grün: Inneres Elekt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521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71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8:12:50Z</dcterms:created>
  <dc:creator>chk</dc:creator>
  <dc:description/>
  <dc:language>en-US</dc:language>
  <cp:lastModifiedBy>keitel18</cp:lastModifiedBy>
  <dcterms:modified xsi:type="dcterms:W3CDTF">2005-06-09T23:18:56Z</dcterms:modified>
  <cp:revision>354</cp:revision>
  <dc:subject/>
  <dc:title>PowerPoint-Präsentation</dc:title>
</cp:coreProperties>
</file>