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gif" ContentType="image/gif"/>
  <Override PartName="/ppt/media/image6.png" ContentType="image/png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F1A-94B2-4441-88CE-15280F5B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883E-E34F-432B-BC41-919DA3C4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BE8D-3935-4A7E-ABE7-02A54D8C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D03-0BC1-40C4-9F10-207FBFDC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0E91-D84F-472F-A8EB-BFF3C9E6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A8A-A04D-4D45-B002-CD3BE09A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28B-2D75-4DB6-A5FD-EB563DEA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CEF4-36D6-4E7D-97C7-B88D8A5A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BDC-4DC0-4D51-886C-0EE03E82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B04-ABDE-4EAA-AC94-D076D41A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B4BF-8115-4AA7-A78A-6A80DBC0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B5E-09B1-4FA9-B6DF-726C4208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D33D-EFDB-45B8-B6F2-6A0D4AB02EC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pg.de/instituteProjekteEinrichtungen/institutsauswahl/astronomie/index.html" TargetMode="External"/><Relationship Id="rId2" Type="http://schemas.openxmlformats.org/officeDocument/2006/relationships/hyperlink" Target="http://www.mpg.de/instituteProjekteEinrichtungen/institutsauswahl/kernphysik/index.html" TargetMode="External"/><Relationship Id="rId3" Type="http://schemas.openxmlformats.org/officeDocument/2006/relationships/hyperlink" Target="http://www.mpg.de/instituteProjekteEinrichtungen/institutsauswahl/medizinische_forschung/index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181320" cy="268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00560" y="244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85200" y="434340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k am Samstagmo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438280"/>
            <a:ext cx="77724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omic Sans MS"/>
              </a:rPr>
              <a:t>Heidel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66ff"/>
                </a:solidFill>
                <a:uFillTx/>
                <a:latin typeface="Comic Sans MS"/>
                <a:hlinkClick r:id="rId1"/>
              </a:rPr>
              <a:t>MPI für Astron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66ff"/>
                </a:solidFill>
                <a:uFillTx/>
                <a:latin typeface="Comic Sans MS"/>
                <a:hlinkClick r:id="rId2"/>
              </a:rPr>
              <a:t>MPI für Kernphy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66ff"/>
                </a:solidFill>
                <a:uFillTx/>
                <a:latin typeface="Comic Sans MS"/>
                <a:hlinkClick r:id="rId3"/>
              </a:rPr>
              <a:t>MPI für medizinische Fors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6666"/>
                </a:solidFill>
                <a:latin typeface="Comic Sans MS"/>
              </a:rPr>
              <a:t>MPI für ausländisches öffentliches Recht und Völkerr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822320" y="2949480"/>
            <a:ext cx="5500800" cy="960480"/>
            <a:chOff x="1822320" y="2949480"/>
            <a:chExt cx="5500800" cy="960480"/>
          </a:xfrm>
        </p:grpSpPr>
        <p:sp>
          <p:nvSpPr>
            <p:cNvPr id="46" name=""/>
            <p:cNvSpPr/>
            <p:nvPr/>
          </p:nvSpPr>
          <p:spPr>
            <a:xfrm>
              <a:off x="1822320" y="2949480"/>
              <a:ext cx="5500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22320" y="2995560"/>
              <a:ext cx="5500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de-DE" sz="54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de-DE" sz="7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Zurück zur Startseite"/>
          <p:cNvPicPr/>
          <p:nvPr/>
        </p:nvPicPr>
        <p:blipFill>
          <a:blip r:embed="rId4"/>
          <a:stretch/>
        </p:blipFill>
        <p:spPr>
          <a:xfrm>
            <a:off x="533520" y="457200"/>
            <a:ext cx="205740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19520" y="380880"/>
            <a:ext cx="61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000 Mitarbeiter plus 9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stwissenschaftler und  Doktor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undlagenforschung in 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istes- und Naturwissenscha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84280" y="579600"/>
            <a:ext cx="7253640" cy="42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k am Samstagmorgen 2003/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9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ktuelle Forschung am Instit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9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sichtigung von La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9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onen zum Physikstu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9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kussionen mit Studentinnen und Stud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934320" y="9907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0520" y="579600"/>
            <a:ext cx="8596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k am Samstagmorgen 2003/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. 1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iße Sternenmaterie und Sonnenw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7. 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mmetrien in der Phy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ymmetrie: Bauplan der Natu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ilchenjagd mit Siliziumdetektoren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ktor- und Elektronikentwick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. 3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trophy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m MPI für Astronomi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ri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e wunderbare Welt der Qua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rebstherapie mit Ionenstra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638680" y="3886200"/>
            <a:ext cx="2362320" cy="1376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772400" y="5486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47920" y="579600"/>
            <a:ext cx="860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k am Samstagmorgen 2003/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. 1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iße Sternenmaterie und Sonnenw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. Crespo López-Urru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ie man heiße Sternenmater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d Sonnenwind im Labor m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314880" cy="2430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47920" y="579600"/>
            <a:ext cx="8600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k am Samstagmorgen 2003/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. 1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iße Sternenmaterie und Sonnenw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. Crespo López-Urru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ie man heiße Sternenmater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d Sonnenwind im Labor m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jalmar Bruh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as täglich Brot e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iplomanden /Doktor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r Phy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257800" y="43434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314880" cy="2430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4:05:23Z</dcterms:created>
  <dc:creator>W. Hofmann</dc:creator>
  <dc:description/>
  <dc:language>en-US</dc:language>
  <cp:lastModifiedBy>public</cp:lastModifiedBy>
  <dcterms:modified xsi:type="dcterms:W3CDTF">2003-11-11T16:16:37Z</dcterms:modified>
  <cp:revision>5</cp:revision>
  <dc:subject/>
  <dc:title>PowerPoint-Präsentation</dc:title>
</cp:coreProperties>
</file>